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104760"/>
            <a:ext cx="7612200" cy="48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11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SzPct val="62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1155600"/>
            <a:ext cx="8218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12733" r="0" b="10904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2743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lity Control Corp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CC Key Customers / Re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9560"/>
            <a:ext cx="4343400" cy="412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sch-Rexro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rpi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milton Sundst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gersoll 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De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4267080" cy="420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ker-Hannif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uer-Danfo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ap-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r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Gover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odward Govern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CC Value Pro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13372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experienced Strategic Business Partner providing a Single Source for a comprehensive portfolio of Manufacturing Services, enabling customers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ai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petitive Advantage through Strategic Outsourc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CC Quality Control Cor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ly Held, Incorp. 195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ly In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Operating Divisions: QC  Div. / QT  Di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Manufacturing Facili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.000 sq ft production 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0 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Sales 2005: $ 35,000,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9001:2000, AS9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CC Vi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1337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 become th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#1 privately held US Outsourcing Manufacturing Partner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for the markets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luid Power, Industrial Product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dical  Device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CC 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dd value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through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prehensive portfolio of Manufacturing Service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 enabling our customers to focus on their core business strengths to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chieve accelerated profitable grow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CC stands f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55 years of experience as a Strategic Outsourcing Part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- Source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Project Management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sophisticated manufacturing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 strength &amp; commitment to grow with partn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ist in handling low to medium volumes cost effici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CC Potential Customer Benef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581280"/>
          </a:xfrm>
          <a:prstGeom prst="rect">
            <a:avLst/>
          </a:prstGeom>
          <a:noFill/>
          <a:ln w="9360">
            <a:solidFill>
              <a:srgbClr val="919191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ime Improv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e Time-to-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e Re-Engineering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Access to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581280"/>
          </a:xfrm>
          <a:prstGeom prst="rect">
            <a:avLst/>
          </a:prstGeom>
          <a:noFill/>
          <a:ln w="9360">
            <a:solidFill>
              <a:srgbClr val="919191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st Improv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Core Business Streng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fficient Management of Non-Cor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Productio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ize Opportunity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Sha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Overhead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r Return of Inves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1905120"/>
            <a:ext cx="0" cy="228600"/>
          </a:xfrm>
          <a:prstGeom prst="line">
            <a:avLst/>
          </a:prstGeom>
          <a:ln w="5724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905120"/>
            <a:ext cx="0" cy="228600"/>
          </a:xfrm>
          <a:prstGeom prst="line">
            <a:avLst/>
          </a:prstGeom>
          <a:ln w="5724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CC Core Competenci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 Management &amp; Off-Shore Sour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phan Products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standing experience in precision manufacturing, complex assembly &amp;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mless extension of customer orga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CC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ion Manufact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C Turning &amp; M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SzPct val="62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Assembly &amp;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ssistance for effective Manufacturing (DF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04760"/>
            <a:ext cx="7612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CC Product Expertis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aulic Gear Pumps &amp; Mo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aulic Val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cal Se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yrinth Se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 Pum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ne Pum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sel Fuel System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 tool Assemb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c012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l Produc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9:45:48Z</dcterms:created>
  <dc:creator>Amy Parent</dc:creator>
  <dc:description/>
  <dc:language>en-US</dc:language>
  <cp:lastModifiedBy>Joe Trytek</cp:lastModifiedBy>
  <cp:lastPrinted>2006-08-29T19:30:57Z</cp:lastPrinted>
  <dcterms:modified xsi:type="dcterms:W3CDTF">2006-10-09T20:55:59Z</dcterms:modified>
  <cp:revision>51</cp:revision>
  <dc:subject/>
  <dc:title>No Slide Title</dc:title>
</cp:coreProperties>
</file>